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E44-E69A-469D-97C0-48878966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15C-889A-4B5C-9C25-02B3104E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24A-64F7-43C7-8318-CCD34B4D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6E5-A8F8-434C-806C-63F95094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9C16-A9BB-4E71-840A-58295691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556B-9A77-41BD-BE54-10766B4A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4FF9-7D84-4E2F-B77D-8CA2ABC3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C00A-2301-4EC9-872A-BE3E4D80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765C-9F41-4C35-9936-B6024444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B066-4CB7-468E-B97F-8F548152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7F20-2511-44C3-8F0D-1FB751B0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6FA-2507-4A4E-A083-2C49D9E9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19ED-6A8B-46D3-B5E5-70E59A11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1B59-40A7-45B1-9576-8BCF360E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D38B-A1B1-48D6-946D-A8839399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F811-954F-4CE9-8056-17CB6E65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C3EC-42E6-4FE4-9D13-3390E28F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5FF-0080-48CC-8A8A-661B13F2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FEA-1312-4D4C-870F-EA017AD5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3DE-5447-4677-BDE6-81E09BC3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A18-923D-4C21-9472-8BECF829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2A1-725F-4CA5-92EF-33E8C9A3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E56-72CA-4732-A2C0-187545E8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5CD-DD30-4DAE-A042-98083056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4400"/>
            <a:ext cx="42228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914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21896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A12E-4B1D-4DC4-B946-B5184A157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229600" y="6126120"/>
            <a:ext cx="900000" cy="7318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467480" y="612468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4CA7-F22A-4CB4-A85D-AAB7C29D42AC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15000" y="5292720"/>
            <a:ext cx="2022480" cy="14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57280" y="5788080"/>
            <a:ext cx="1819440" cy="56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38080" y="5711760"/>
            <a:ext cx="716040" cy="689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886200" y="5626080"/>
            <a:ext cx="89856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oward a Unified Gene Pag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962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Apri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10160" y="4876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 Gilbert, 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gilbertd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@indiana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001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and size of default docu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, text, document-lik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creen or lon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(maps, icons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Detail o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and Design (colors, formatting, fonts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hould these be unified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207040" cy="63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custo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&amp;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organism community (org. standard) or for general reader (general stand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beginners or experts (simple,compl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customizable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391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81000" y="177840"/>
            <a:ext cx="7182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6531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391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02936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le text of gene pa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hat you see (web page) is also what your computer can read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d human-readable, or complex and det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variants, tabular,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2XML, NCBI XML,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 (Web -&gt; 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XML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net news (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www.bio.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s new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celegans, yeast, chlamydomonas, drosophila, zebrafish, maize, urodeles; genbank, embl, software, others.  Letters of Suppor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aGrid (NSF Shared Cyberinfrastructure) wants to help MOD genome comp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for FlyBase and euGenes this fall - 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Don Gilbert for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xtraneous announcement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ly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266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Yeast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305000"/>
            <a:ext cx="70866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ouse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825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orm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656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: Design your common ge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/paste sample XML pages into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what should be un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best parts of MOD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: Talk MODs into generating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http://eugenes.org/all/gene-report-exampl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600" y="3808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1320" y="61920"/>
            <a:ext cx="745956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arts of MOD gen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/should be un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ill benefit? 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Web Repor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M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: discuss, design common ge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Gene P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9520"/>
            <a:ext cx="77724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, symbols/IDs, 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cross-refs, Exter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attributes, pt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, Tran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and Mutant Phen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, Structure and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 oth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attributes, pt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3428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s - are these same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/ locus / o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 / ortholog / relationship / similarit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tion / publication / re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of docu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h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at 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mmon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hould these be unified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cp:lastPrinted>2003-09-14T02:13:55Z</cp:lastPrinted>
  <dcterms:modified xsi:type="dcterms:W3CDTF">2004-04-26T01:53:51Z</dcterms:modified>
  <cp:revision>75</cp:revision>
  <dc:subject/>
  <dc:title>wFleaBase in ARGOS</dc:title>
</cp:coreProperties>
</file>